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D80-F0A4-40B1-9021-9ABAE740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B63-8E8B-4134-8222-27DC65B9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F71-0FE0-4154-B865-BB6CA64F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E32-2535-43F1-87BB-BDA100C7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1911-3E22-4565-B449-B1251E32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65E4-5B3A-4BC6-A678-92B0BEE6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40ED-BE9F-4041-87D4-3C987DCE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5654-1E5A-476F-BCB6-54E74416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F8D6-801A-4906-9113-75F75C59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0E36-B5DB-43F4-87BE-8582997A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1F90-E67A-47A8-979B-98CD927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0E8-6550-4D8F-A8B0-BFD23EC2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C6B8-45C7-468D-AC67-3283311D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65A0-3BE2-43BF-B3D8-497A4F84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3D21-FB9C-4DE5-8C30-1335FFE0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EBFE-9AF2-4174-840E-488075BC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B735-BA4D-4EB0-ACB5-4CC6C829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851-E9BE-449D-9708-4F4D0138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3FD-8F60-4707-ADAB-20A295DB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DA7-DA56-4226-9DBD-F91AB9C3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953-C9A1-4841-B3E1-4F573714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2C6-2CFD-4DDF-86DC-5D84E1DB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6E5-40CA-43C9-A763-92782CAC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9D6-4DD0-4DBC-8300-8B35EAF2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1C45-3D13-43F7-8381-62790F4C32C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1B96-6657-41B9-9C61-09BD4DF40C0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pic.com/coments.php?id=196" TargetMode="External"/><Relationship Id="rId2" Type="http://schemas.openxmlformats.org/officeDocument/2006/relationships/hyperlink" Target="http://imgpic.com/coments.php?id=196" TargetMode="External"/><Relationship Id="rId3" Type="http://schemas.openxmlformats.org/officeDocument/2006/relationships/hyperlink" Target="http://imgpic.com/coments.php?id=196" TargetMode="External"/><Relationship Id="rId4" Type="http://schemas.openxmlformats.org/officeDocument/2006/relationships/hyperlink" Target="http://myflowerz.ru/?page_id=161" TargetMode="External"/><Relationship Id="rId5" Type="http://schemas.openxmlformats.org/officeDocument/2006/relationships/hyperlink" Target="http://myflowerz.ru/?page_id=161" TargetMode="External"/><Relationship Id="rId6" Type="http://schemas.openxmlformats.org/officeDocument/2006/relationships/hyperlink" Target="http://myflowerz.ru/?page_id=161" TargetMode="External"/><Relationship Id="rId7" Type="http://schemas.openxmlformats.org/officeDocument/2006/relationships/hyperlink" Target="http://www.savaserlin.ru/View_full_story.php?foto_cat=%20Polypodiophyta&amp;Story_ID=774&amp;from_fc=0" TargetMode="External"/><Relationship Id="rId8" Type="http://schemas.openxmlformats.org/officeDocument/2006/relationships/hyperlink" Target="http://www.savaserlin.ru/View_full_story.php?foto_cat=%20Polypodiophyta&amp;Story_ID=774&amp;from_fc=0" TargetMode="External"/><Relationship Id="rId9" Type="http://schemas.openxmlformats.org/officeDocument/2006/relationships/hyperlink" Target="http://www.savaserlin.ru/View_full_story.php?foto_cat=%20Polypodiophyta&amp;Story_ID=774&amp;from_fc=0" TargetMode="External"/><Relationship Id="rId10" Type="http://schemas.openxmlformats.org/officeDocument/2006/relationships/hyperlink" Target="http://clubs.ya.ru/4611686018427419742/replies.xml?item_no=767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ЗНООБРАЗИЕ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СТЕНИЙ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особенности внешнего строения растен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88000" y="5303880"/>
            <a:ext cx="4356000" cy="1557000"/>
          </a:xfrm>
          <a:prstGeom prst="rect">
            <a:avLst/>
          </a:prstGeom>
          <a:solidFill>
            <a:srgbClr val="7ac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БОУ ЦО №1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пья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Картинка 6 из 957"/>
          <p:cNvPicPr/>
          <p:nvPr/>
        </p:nvPicPr>
        <p:blipFill>
          <a:blip r:embed="rId1"/>
          <a:stretch/>
        </p:blipFill>
        <p:spPr>
          <a:xfrm>
            <a:off x="539640" y="1484280"/>
            <a:ext cx="472464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4" descr="Картинка 3 из 20375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6" descr="http://www.murman.ru/flora/pictures/p200112.jpg"/>
          <p:cNvPicPr/>
          <p:nvPr/>
        </p:nvPicPr>
        <p:blipFill>
          <a:blip r:embed="rId3"/>
          <a:stretch/>
        </p:blipFill>
        <p:spPr>
          <a:xfrm>
            <a:off x="2700360" y="3808440"/>
            <a:ext cx="4475160" cy="30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" descr="http://www.savaserlin.ru/resize_image.php?sw=700&amp;sh=550&amp;image=pictures/774_1.jpg"/>
          <p:cNvPicPr/>
          <p:nvPr/>
        </p:nvPicPr>
        <p:blipFill>
          <a:blip r:embed="rId1"/>
          <a:stretch/>
        </p:blipFill>
        <p:spPr>
          <a:xfrm>
            <a:off x="969840" y="1268280"/>
            <a:ext cx="7272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, вопросы на с.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mgpic.com/coments.php?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=1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myflowerz.ru/?page_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=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savaserlin.ru/View_full_story.php?foto_cat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=%20Polypodiophyta&amp;Story_ID=774&amp;from_fc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clubs.ya.ru/4611686018427419742/replies.xml?item_no=76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kiev-forum.com.ua/entries/532-%D0%9B%D0%B5%D0%BA%D0%B0%D1%80%D1%81%D1%82%D0%B2%D0%B5%D0%BD%D0%BD%D1%8B%D0%B5-%D1%82%D1%80%D0%B0%D0%B2%D1%8B-%D0%A5%D0%B2%D0%BE%D1%89-%D0%BF%D0%BE%D0%BB%D0%B5%D0%B2%D0%BE%D0%B9?s=bec6c876f2649a998c1098f410b5991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urman.ru/flora/data/120011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amonitore.ru/wallpapers/big/shishka_1_16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63680" y="334800"/>
            <a:ext cx="8242200" cy="359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80x120"/>
          <p:cNvPicPr/>
          <p:nvPr/>
        </p:nvPicPr>
        <p:blipFill>
          <a:blip r:embed="rId2"/>
          <a:stretch/>
        </p:blipFill>
        <p:spPr>
          <a:xfrm>
            <a:off x="1023840" y="3932280"/>
            <a:ext cx="2773440" cy="412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можжев"/>
          <p:cNvPicPr/>
          <p:nvPr/>
        </p:nvPicPr>
        <p:blipFill>
          <a:blip r:embed="rId3"/>
          <a:stretch/>
        </p:blipFill>
        <p:spPr>
          <a:xfrm>
            <a:off x="5419800" y="3932280"/>
            <a:ext cx="2773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33"/>
                </a:solidFill>
                <a:latin typeface="Garamond"/>
              </a:rPr>
              <a:t>ОРГА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часть организма растения, выполняющая в нем определенную функцию и имеющая особ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Органы растений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Группа 8"/>
          <p:cNvGrpSpPr/>
          <p:nvPr/>
        </p:nvGrpSpPr>
        <p:grpSpPr>
          <a:xfrm>
            <a:off x="2411280" y="1278000"/>
            <a:ext cx="4321440" cy="5580000"/>
            <a:chOff x="2411280" y="1278000"/>
            <a:chExt cx="4321440" cy="5580000"/>
          </a:xfrm>
        </p:grpSpPr>
        <p:pic>
          <p:nvPicPr>
            <p:cNvPr id="99" name="Picture 2" descr="http://plantsblog.ru/wp-content/uploads/2012/05/organy-rastenij_5.jpg"/>
            <p:cNvPicPr/>
            <p:nvPr/>
          </p:nvPicPr>
          <p:blipFill>
            <a:blip r:embed="rId1"/>
            <a:stretch/>
          </p:blipFill>
          <p:spPr>
            <a:xfrm>
              <a:off x="2411280" y="1278000"/>
              <a:ext cx="432144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5"/>
            <p:cNvSpPr/>
            <p:nvPr/>
          </p:nvSpPr>
          <p:spPr>
            <a:xfrm>
              <a:off x="2555640" y="5805720"/>
              <a:ext cx="1079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7"/>
            <p:cNvSpPr/>
            <p:nvPr/>
          </p:nvSpPr>
          <p:spPr>
            <a:xfrm>
              <a:off x="3635280" y="5950080"/>
              <a:ext cx="865080" cy="71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10"/>
          <p:cNvSpPr/>
          <p:nvPr/>
        </p:nvSpPr>
        <p:spPr>
          <a:xfrm>
            <a:off x="755640" y="4581360"/>
            <a:ext cx="748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Левая фигурная скобка 13"/>
          <p:cNvSpPr/>
          <p:nvPr/>
        </p:nvSpPr>
        <p:spPr>
          <a:xfrm>
            <a:off x="611280" y="1268280"/>
            <a:ext cx="647640" cy="3240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3240360"/>
              <a:gd name="textAreaBottom" fmla="*/ 32238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Левая фигурная скобка 14"/>
          <p:cNvSpPr/>
          <p:nvPr/>
        </p:nvSpPr>
        <p:spPr>
          <a:xfrm>
            <a:off x="684360" y="4581360"/>
            <a:ext cx="574560" cy="2276640"/>
          </a:xfrm>
          <a:custGeom>
            <a:avLst/>
            <a:gdLst>
              <a:gd name="textAreaLeft" fmla="*/ 367200 w 574560"/>
              <a:gd name="textAreaRight" fmla="*/ 574920 w 574560"/>
              <a:gd name="textAreaTop" fmla="*/ 14760 h 2276640"/>
              <a:gd name="textAreaBottom" fmla="*/ 226188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7"/>
                  <a:pt x="10800" y="454"/>
                </a:cubicBezTo>
                <a:lnTo>
                  <a:pt x="10800" y="10346"/>
                </a:lnTo>
                <a:cubicBezTo>
                  <a:pt x="10800" y="10573"/>
                  <a:pt x="5400" y="10800"/>
                  <a:pt x="0" y="10800"/>
                </a:cubicBezTo>
                <a:cubicBezTo>
                  <a:pt x="5400" y="10800"/>
                  <a:pt x="10800" y="11027"/>
                  <a:pt x="10800" y="11254"/>
                </a:cubicBezTo>
                <a:lnTo>
                  <a:pt x="10800" y="21146"/>
                </a:lnTo>
                <a:cubicBezTo>
                  <a:pt x="10800" y="21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 flipH="1" rot="16200000">
            <a:off x="-819000" y="223128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бе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 rot="16200000">
            <a:off x="-728280" y="54259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4500720" y="1125360"/>
            <a:ext cx="4174920" cy="2447640"/>
            <a:chOff x="4500720" y="1125360"/>
            <a:chExt cx="4174920" cy="2447640"/>
          </a:xfrm>
        </p:grpSpPr>
        <p:grpSp>
          <p:nvGrpSpPr>
            <p:cNvPr id="108" name="Группа 23"/>
            <p:cNvGrpSpPr/>
            <p:nvPr/>
          </p:nvGrpSpPr>
          <p:grpSpPr>
            <a:xfrm>
              <a:off x="4500720" y="1413360"/>
              <a:ext cx="2159280" cy="2159640"/>
              <a:chOff x="4500720" y="1413360"/>
              <a:chExt cx="2159280" cy="2159640"/>
            </a:xfrm>
          </p:grpSpPr>
          <p:sp>
            <p:nvSpPr>
              <p:cNvPr id="109" name="Прямая соединительная линия 20"/>
              <p:cNvSpPr/>
              <p:nvPr/>
            </p:nvSpPr>
            <p:spPr>
              <a:xfrm>
                <a:off x="4500720" y="1413360"/>
                <a:ext cx="215928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22"/>
              <p:cNvSpPr/>
              <p:nvPr/>
            </p:nvSpPr>
            <p:spPr>
              <a:xfrm flipV="1">
                <a:off x="4716360" y="1557360"/>
                <a:ext cx="18720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3"/>
            <p:cNvSpPr/>
            <p:nvPr/>
          </p:nvSpPr>
          <p:spPr>
            <a:xfrm>
              <a:off x="6732000" y="1125360"/>
              <a:ext cx="19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ч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39"/>
          <p:cNvGrpSpPr/>
          <p:nvPr/>
        </p:nvGrpSpPr>
        <p:grpSpPr>
          <a:xfrm>
            <a:off x="5580000" y="2421000"/>
            <a:ext cx="3240000" cy="1368360"/>
            <a:chOff x="5580000" y="2421000"/>
            <a:chExt cx="3240000" cy="1368360"/>
          </a:xfrm>
        </p:grpSpPr>
        <p:grpSp>
          <p:nvGrpSpPr>
            <p:cNvPr id="113" name="Группа 28"/>
            <p:cNvGrpSpPr/>
            <p:nvPr/>
          </p:nvGrpSpPr>
          <p:grpSpPr>
            <a:xfrm>
              <a:off x="5580000" y="2421000"/>
              <a:ext cx="1440000" cy="1368360"/>
              <a:chOff x="5580000" y="2421000"/>
              <a:chExt cx="1440000" cy="1368360"/>
            </a:xfrm>
          </p:grpSpPr>
          <p:sp>
            <p:nvSpPr>
              <p:cNvPr id="114" name="Прямая соединительная линия 25"/>
              <p:cNvSpPr/>
              <p:nvPr/>
            </p:nvSpPr>
            <p:spPr>
              <a:xfrm>
                <a:off x="5651280" y="2421000"/>
                <a:ext cx="129708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7"/>
              <p:cNvSpPr/>
              <p:nvPr/>
            </p:nvSpPr>
            <p:spPr>
              <a:xfrm flipV="1">
                <a:off x="5580000" y="3502080"/>
                <a:ext cx="144000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34"/>
            <p:cNvSpPr/>
            <p:nvPr/>
          </p:nvSpPr>
          <p:spPr>
            <a:xfrm>
              <a:off x="7092000" y="3141360"/>
              <a:ext cx="17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ист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0"/>
          <p:cNvGrpSpPr/>
          <p:nvPr/>
        </p:nvGrpSpPr>
        <p:grpSpPr>
          <a:xfrm>
            <a:off x="1042920" y="1268280"/>
            <a:ext cx="2952360" cy="1152720"/>
            <a:chOff x="1042920" y="1268280"/>
            <a:chExt cx="2952360" cy="1152720"/>
          </a:xfrm>
        </p:grpSpPr>
        <p:sp>
          <p:nvSpPr>
            <p:cNvPr id="118" name="Прямая соединительная линия 30"/>
            <p:cNvSpPr/>
            <p:nvPr/>
          </p:nvSpPr>
          <p:spPr>
            <a:xfrm flipH="1" flipV="1">
              <a:off x="2842920" y="1700280"/>
              <a:ext cx="115236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1042920" y="12682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цвет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41"/>
          <p:cNvGrpSpPr/>
          <p:nvPr/>
        </p:nvGrpSpPr>
        <p:grpSpPr>
          <a:xfrm>
            <a:off x="1116000" y="3645000"/>
            <a:ext cx="3527280" cy="581400"/>
            <a:chOff x="1116000" y="3645000"/>
            <a:chExt cx="3527280" cy="581400"/>
          </a:xfrm>
        </p:grpSpPr>
        <p:sp>
          <p:nvSpPr>
            <p:cNvPr id="121" name="Прямая соединительная линия 32"/>
            <p:cNvSpPr/>
            <p:nvPr/>
          </p:nvSpPr>
          <p:spPr>
            <a:xfrm flipH="1">
              <a:off x="3132000" y="4005360"/>
              <a:ext cx="151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7"/>
            <p:cNvSpPr/>
            <p:nvPr/>
          </p:nvSpPr>
          <p:spPr>
            <a:xfrm>
              <a:off x="1116000" y="364500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еб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Корень и побег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лавные вегетативные органы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Вегетативное размно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http://s40.radikal.ru/i088/0812/7f/b67bc75fca89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4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58120" cy="39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99_paporotnik1"/>
          <p:cNvPicPr/>
          <p:nvPr/>
        </p:nvPicPr>
        <p:blipFill>
          <a:blip r:embed="rId2"/>
          <a:stretch/>
        </p:blipFill>
        <p:spPr>
          <a:xfrm>
            <a:off x="5492880" y="4218120"/>
            <a:ext cx="276696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ddleja"/>
          <p:cNvPicPr/>
          <p:nvPr/>
        </p:nvPicPr>
        <p:blipFill>
          <a:blip r:embed="rId3"/>
          <a:stretch/>
        </p:blipFill>
        <p:spPr>
          <a:xfrm>
            <a:off x="1170000" y="4218120"/>
            <a:ext cx="28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32560" cy="33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178999859_f"/>
          <p:cNvPicPr/>
          <p:nvPr/>
        </p:nvPicPr>
        <p:blipFill>
          <a:blip r:embed="rId2"/>
          <a:stretch/>
        </p:blipFill>
        <p:spPr>
          <a:xfrm>
            <a:off x="5126040" y="3790800"/>
            <a:ext cx="3206880" cy="476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ampsis_radicans"/>
          <p:cNvPicPr/>
          <p:nvPr/>
        </p:nvPicPr>
        <p:blipFill>
          <a:blip r:embed="rId3"/>
          <a:stretch/>
        </p:blipFill>
        <p:spPr>
          <a:xfrm>
            <a:off x="811080" y="3790800"/>
            <a:ext cx="3206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равни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Картинка 12 из 212956"/>
          <p:cNvPicPr/>
          <p:nvPr/>
        </p:nvPicPr>
        <p:blipFill>
          <a:blip r:embed="rId1"/>
          <a:stretch/>
        </p:blipFill>
        <p:spPr>
          <a:xfrm>
            <a:off x="469800" y="1487520"/>
            <a:ext cx="4314960" cy="4919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Картинка 7 из 159123"/>
          <p:cNvPicPr/>
          <p:nvPr/>
        </p:nvPicPr>
        <p:blipFill>
          <a:blip r:embed="rId2"/>
          <a:stretch/>
        </p:blipFill>
        <p:spPr>
          <a:xfrm>
            <a:off x="4932360" y="1487520"/>
            <a:ext cx="388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49:26Z</dcterms:created>
  <dc:creator>Лариса</dc:creator>
  <dc:description/>
  <dc:language>en-US</dc:language>
  <cp:lastModifiedBy>Мама</cp:lastModifiedBy>
  <dcterms:modified xsi:type="dcterms:W3CDTF">2012-09-14T19:31:42Z</dcterms:modified>
  <cp:revision>53</cp:revision>
  <dc:subject/>
  <dc:title>Как разрушаются камни.</dc:title>
</cp:coreProperties>
</file>